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8D50-AC78-4F04-BDA1-865FE7E6E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4120-9391-48C9-8DC3-D8171A680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910B-E3E8-40C8-BACC-1AC8EE4FE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22A0-E86A-4DB8-AEB2-799AC1E5E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911B-55B7-4FA7-9003-18FDF47D3D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577B-5CC0-40A0-9836-F732DEA5E5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DB59-F401-4E2A-9A93-C1BECF14EC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92A1-C342-417F-B629-58C26D0482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6657-65C5-45EC-9868-80EE8CABA9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3AD5-C914-4B26-9763-3FCB9CB164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7B45-FC82-49CF-8E4D-8FB58EF08B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6DF9-5BF2-4C57-881E-6F4341781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62C9-E524-42FB-A4E5-3F986F717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3EE9-615C-4C37-8A64-48B55C8EA8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28B7-623B-482E-9CDE-409D0F0641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2674-7DE4-4CDA-965F-CA923EDAF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8857-8AF4-4C6F-A93C-98B3BC0BEC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D15D-41E3-460D-9E0C-263419DA5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7E44-C989-44AF-A949-D498F9102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9B47-CFDA-4D71-A786-15EF55CAB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6054-C1F1-422C-9136-B1A892393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1A9F-8CA1-43AC-82CD-5C012BEE0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ADBD-E1FF-493B-BAFD-73532565B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5DAA-C269-4D97-8E7C-23741ABC5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E19C-4B22-46C0-B520-7A9ED4F329F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99B2-88A9-40E6-BD54-CEA9F83C9D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3392640"/>
            <a:ext cx="8136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1 — Word Basic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298D-39BC-4CB9-9EBF-F2A8507A22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Navigating Through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2514600"/>
          <a:ext cx="6292800" cy="3344760"/>
        </p:xfrm>
        <a:graphic>
          <a:graphicData uri="http://schemas.openxmlformats.org/drawingml/2006/table">
            <a:tbl>
              <a:tblPr/>
              <a:tblGrid>
                <a:gridCol w="2295360"/>
                <a:gridCol w="399744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MOVE THE INSERTION PO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gh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ght one charac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f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ft one charac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wn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next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p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previous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end of the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beginning of a 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ge Dow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next p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ge u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previous p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A31E-0B79-43ED-B9D9-0BB4EA6BDD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Navigating Through a Document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47920" y="2514600"/>
          <a:ext cx="6292800" cy="1962000"/>
        </p:xfrm>
        <a:graphic>
          <a:graphicData uri="http://schemas.openxmlformats.org/drawingml/2006/table">
            <a:tbl>
              <a:tblPr/>
              <a:tblGrid>
                <a:gridCol w="2332080"/>
                <a:gridCol w="396072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MOVE THE INSERTION PO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tl+righ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next wor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tl+left arrow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previous wor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trl+En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end of the docu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tl+Hom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beginning of the document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6A07-5605-46CF-B625-3372C74205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aving a Fi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Save A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–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File, Save A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Do when saving a file for the first time, saving a file using a different name, or saving a file to a new location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Sav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– After you have already saved a file, choos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File, Sav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or th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Save butt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on the Standard toolbar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This will update the file, but does not open the Save As dialog box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57150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E840-12DF-476C-9391-6AFF7F318A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ening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Open: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open an existing document, or click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pen butt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40360" y="4041720"/>
            <a:ext cx="12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260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657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7640" y="394488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71C6-964F-4F2D-A753-326DD51382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Zoom 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Zoom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– allows you to magnify and reduce the document on the scre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ew, Zoo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Allows you to change the percentage of magnifica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1629-A377-48A2-85F2-D6A756BD51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ull Screen 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ll Screen 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moves the toolbars, rulers, and scrollbars from the scre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View, Full Screen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931F-C362-451B-BCA2-E1AD78AD8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int Preview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313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int Pre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llows you to view a document as it will appear when it is printed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Print Pre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or click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rint Pre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673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260280"/>
            <a:ext cx="14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977080" y="497844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7D96-D7FA-4B08-BFDF-D622F91B1F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ge Orient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rait orient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ocuments are longer than they are w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dscape orient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ocuments are wider than they are lo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the orientation of a document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Page Set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03D2-3C20-4756-8B68-9EBDA9012E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ge Orientati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603520" cy="32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0000" y="2924280"/>
            <a:ext cx="3529080" cy="273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9E2D-1D9E-4C21-8593-EF7859C08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inting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ile, Print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int dialog box will app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also click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rint butt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n either the Standard or the Print Preview toolbars. **The Print dialog box will not appea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3280" y="5192640"/>
            <a:ext cx="16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04000" y="5337000"/>
            <a:ext cx="718920" cy="6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884A-F9B6-4738-A6CE-37A649D6EF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new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parts of the opening 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 the five ways to view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r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he insertion point in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e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D70A-A161-4918-8FB7-431CD6F3D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rint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2529000"/>
            <a:ext cx="4972320" cy="3771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32720" y="3213000"/>
            <a:ext cx="197964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inter Choi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umber of Cop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nge (What to prin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tworked Print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S218La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E216-36BB-49DC-BAE2-14792E5CF3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tandard Toolba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5862" r="35937" b="89954"/>
          <a:stretch/>
        </p:blipFill>
        <p:spPr>
          <a:xfrm>
            <a:off x="792000" y="2819520"/>
            <a:ext cx="8047080" cy="393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71640" y="4329000"/>
            <a:ext cx="75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w Document, Open, Print, Print Preview, Spell Check, Cut, Copy, Past, Undo, Redo, Show/Hide, Zo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08CA-F8C1-4F71-AFB8-9E5B1A3BB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rmatting Toolba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9568" r="32814" b="86090"/>
          <a:stretch/>
        </p:blipFill>
        <p:spPr>
          <a:xfrm>
            <a:off x="539640" y="3176640"/>
            <a:ext cx="8352000" cy="40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00000" y="454500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yle, Font, Font Size, Bold, Italic, Underline, Alignments, Number Bullets, Symbol Bullets, Highlight, Font Col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1D49-311E-432D-8007-70E9D2F55D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Word is a word-processing program used to create documents such as letters, memos, forms, reports, and even Web pag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key elements of the opening screen are the Standard and Formatting toolbars, ruler, insertion point, view buttons, status bar, and task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B606-7649-4F7C-9451-49DD094161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view the document screen in Normal view, Web Layout view, Print Layout view, Outline view, and Reading Layout view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insertion point can be placed anywhere within the document using the keyboard or m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64EA-4AFC-4E53-844B-CE075D487A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ord wrap feature automatically wraps words around to the next line if they will not fit on the current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first time that you save a document, use Save As on the File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ocate and open existing documents through the Open dialog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E311-8E80-4C65-98D3-D8EE7CA23F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Zoom view allows you to magnify or reduce a document on the 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ull Screen view removes the toolbars, rulers, and scroll bars from the scre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se the Page Setup dialog box to change the page ori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2E3B-574B-400B-9DD5-BD3EF8BC45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Preview allows you to view a document as it will appear when prin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int a document by choosing Print from the File menu or by clicking the Print button on the Standard toolba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3D3D-A34A-487A-BD08-EEAF57B6DD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Zoom to magnify and reduce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a document to Full Screen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view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a document’s page ori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te and open an existing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A122-47B4-4F6D-8D30-5C497EEF37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 Screen 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ape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rait ori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Pre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wra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om 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31B6-65B7-4843-BB4B-AA25D61654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What Is Word?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ord-processing application in the Microsoft Office 2003 sui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enter and edit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nd edit documents, such as letters and report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2C0B-56BE-4ABD-9F7B-A347513CE0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nderstanding the Opening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View Scree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6000" y="2514600"/>
          <a:ext cx="7524720" cy="3325680"/>
        </p:xfrm>
        <a:graphic>
          <a:graphicData uri="http://schemas.openxmlformats.org/drawingml/2006/table">
            <a:tbl>
              <a:tblPr/>
              <a:tblGrid>
                <a:gridCol w="1871640"/>
                <a:gridCol w="56530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ndard toolb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ains buttons for tasks such as printing and opening document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atting toolb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ains buttons for changing the format of characters and paragraph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ul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ed to change indents, tabs, and margin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sertion poi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ows where text will appear when you begin keying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ew butto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nges views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tus b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ows the portion of the document is shown on the screen and the location of the insertion point. Also shows the status of Word features.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8C5E-B191-4FE4-9BEA-DCA3178D25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ask Pan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eparate window on the right-hand side of the document window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ains commonly used commands for functions such as styles, formatting, and clip 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5158-DCBF-4A52-B876-3E83090ABE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dentifying the Parts of the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pening Scree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7640" y="2600280"/>
            <a:ext cx="6551640" cy="369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416720" y="2673360"/>
            <a:ext cx="14400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ndard Tool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atting Tool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l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sertion Poi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iew Butt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tus B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sk Pa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4D60-17B2-4037-9E91-8F5B9DFA9C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ive Ways to View a Docume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rmal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implified layout of the page so you can key, edit, and format tex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b Layout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ws how a document looks when viewed as a Web p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int Layout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ws how a document looks when it is prin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utline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displays headings and text in outline for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ading view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ws text on the screen in a form that is easy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901F-1638-41A9-A1FB-FCF3E35AE8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 Co.</dc:creator>
  <dc:description/>
  <dc:language>en-US</dc:language>
  <cp:lastModifiedBy>LDSD</cp:lastModifiedBy>
  <dcterms:modified xsi:type="dcterms:W3CDTF">2009-09-16T17:37:14Z</dcterms:modified>
  <cp:revision>100</cp:revision>
  <dc:subject/>
  <dc:title>Microsoft Office XP: Introductory</dc:title>
</cp:coreProperties>
</file>